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1128-7EBF-495B-BF59-5F40947D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BDC-E04B-439D-881C-0C8E71AB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9534-39DF-4A41-9755-221EA460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35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667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000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35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667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7753-E61D-4A02-8BFC-A130AD8F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CE3F-3DE2-4A9C-8A27-8B9579FF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3D8D-CC88-4AB5-A095-47B076D3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2E9E-958B-4174-9555-AABAE5B8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2C0C-550B-45CE-907E-08607004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9055-A0E9-4B23-8E83-4A4890B6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35820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77C8-3AEB-4160-98BA-30621471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7CA3-6ADA-46BA-AB58-BEE21840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4B4-9251-4CDF-83CC-D9A7F5CB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B7FF-0F2E-4D6C-A348-844252FD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5D4D-4637-4686-ABF7-84833C7E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D02B-BABD-4651-8750-3A28EC18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7929-9F5A-4B9E-9D1F-2E27DD8E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35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667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6000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35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667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02CE-B7F6-4114-9DA1-9C10505C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94CA-F9D4-4384-8D69-F3CDECC9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3C9A-CDDB-4990-99FE-C886B9BC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828F-D402-4E91-914F-8058CF6E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35820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7B49-F173-4C7D-B71C-6FF4B5ED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8C33-E0C7-48C6-8F21-469CC43D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7FB6-6D9E-423C-8CCB-01C32283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087F-A5AD-44F2-BB18-01A894F3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79280"/>
            <a:ext cx="9720360" cy="126072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" name=""/>
          <p:cNvSpPr/>
          <p:nvPr/>
        </p:nvSpPr>
        <p:spPr>
          <a:xfrm>
            <a:off x="7559640" y="6840360"/>
            <a:ext cx="2519280" cy="5400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" name=""/>
          <p:cNvSpPr/>
          <p:nvPr/>
        </p:nvSpPr>
        <p:spPr>
          <a:xfrm>
            <a:off x="900000" y="6840360"/>
            <a:ext cx="6480360" cy="540000"/>
          </a:xfrm>
          <a:prstGeom prst="rect">
            <a:avLst/>
          </a:prstGeom>
          <a:solidFill>
            <a:srgbClr val="bdc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"/>
          <p:cNvSpPr/>
          <p:nvPr/>
        </p:nvSpPr>
        <p:spPr>
          <a:xfrm>
            <a:off x="179280" y="6840360"/>
            <a:ext cx="54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559640" y="6840000"/>
            <a:ext cx="23385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ource Sans Pro Blac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079280" y="6840000"/>
            <a:ext cx="32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ource Sans Pro Black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78920" y="684000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A422834-D992-4E2D-88F2-26B1E8D7DA86}" type="slidenum">
              <a:rPr b="1" lang="it-IT" sz="24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149640"/>
            <a:ext cx="9720360" cy="12603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333072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280" y="4680000"/>
            <a:ext cx="9178920" cy="25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marL="226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559640" y="6840000"/>
            <a:ext cx="233856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e74c3c"/>
                </a:solidFill>
                <a:latin typeface="Source Sans Pro Blac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79280" y="6840000"/>
            <a:ext cx="32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e74c3c"/>
                </a:solidFill>
                <a:latin typeface="Source Sans Pro Black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78920" y="6840000"/>
            <a:ext cx="5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D59CC6A-ECCF-4FEB-91C3-B5DE466E5DF8}" type="slidenum">
              <a:rPr b="1" lang="it-IT" sz="2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360" y="333072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L’applicativo ‘SSAM - Spatial Sustainability</a:t>
            </a: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Assessment Model’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07280" y="2879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1520" y="4500720"/>
            <a:ext cx="3200400" cy="1230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138720" y="4584600"/>
            <a:ext cx="2968920" cy="1030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7280" y="6983280"/>
            <a:ext cx="6191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ource Sans Pro"/>
              </a:rPr>
              <a:t>Gianluca Massei ### Perugia 29 – 30 maggio 2019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2" name=""/>
          <p:cNvSpPr/>
          <p:nvPr/>
        </p:nvSpPr>
        <p:spPr>
          <a:xfrm>
            <a:off x="287280" y="792000"/>
            <a:ext cx="92883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kkoPro-Regular"/>
                <a:ea typeface="AkkoPro-Regular"/>
              </a:rPr>
              <a:t>Giornate di formazion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300" spc="-1" strike="noStrike">
                <a:solidFill>
                  <a:srgbClr val="000000"/>
                </a:solidFill>
                <a:latin typeface="AkkoPro-Regular"/>
                <a:ea typeface="AkkoPro-Regular"/>
              </a:rPr>
              <a:t>Modelli di Valutazione Territoriale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79640" y="2101680"/>
            <a:ext cx="7920000" cy="444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5D2D-A54E-4335-ABCA-DEABC67924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Barre della sostenibilità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6560" y="1647720"/>
            <a:ext cx="8672400" cy="46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06AB-1711-4692-9DEF-8565A2F3E90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Bolle della sostenibilità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27160" y="1839960"/>
            <a:ext cx="7962840" cy="45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534-1AE3-45C8-B014-D070B4C808D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Cartogramma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16120" y="1979640"/>
            <a:ext cx="6469200" cy="46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EE59-6D7D-4C24-B120-409A640066D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Estrazione delle regol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4040" y="1577880"/>
            <a:ext cx="9356760" cy="504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47B-5F81-4F4C-A603-7E6F4E55A15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Grazie dell’attenzion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22" name=""/>
          <p:cNvSpPr/>
          <p:nvPr/>
        </p:nvSpPr>
        <p:spPr>
          <a:xfrm>
            <a:off x="824040" y="3489480"/>
            <a:ext cx="85676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ource Sans Pro"/>
              </a:rPr>
              <a:t>Licenza Creative Commons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ource Sans Pro"/>
              </a:rPr>
              <a:t>Quest'opera è distribuita con Licenza Creative Commons Attribuzione 4.0 Internazionale.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44640" y="35323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B7DE-2E9F-4E86-9E6D-A060C23EF3BA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stallazion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31640" y="1728720"/>
            <a:ext cx="8999640" cy="497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3F6F-1062-46D9-8DCF-8CBEE6D275E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Avvio di SSAM ed applicazione del modello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0360" y="1584360"/>
            <a:ext cx="9180360" cy="400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3750-0660-4C3C-BF50-7B9FE5C4C87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Setting del plugin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52B-2446-4ACB-B86F-7DB814ACC8D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dicatori ambiental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312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FAFA-B2E8-464F-829A-21CAFA39AC7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dicatori ecoonomic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C17E-9352-4EC6-8740-F4579C7D1EA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dicatori social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0FF6-CCDD-42CA-8E71-B336E4872C8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Analisi dei risultat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937D-5208-4E79-9BE0-6A982A588B1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Mappe della sostenibilità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79640" y="2101680"/>
            <a:ext cx="8283600" cy="468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312A-B65E-4F19-9EC8-359ACE11622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8T16:26:21Z</dcterms:created>
  <dc:creator/>
  <dc:description/>
  <dc:language>en-US</dc:language>
  <cp:lastModifiedBy/>
  <dcterms:modified xsi:type="dcterms:W3CDTF">2019-05-28T20:35:22Z</dcterms:modified>
  <cp:revision>10</cp:revision>
  <dc:subject/>
  <dc:title>Alizarin</dc:title>
</cp:coreProperties>
</file>